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EBD0-ABAD-426D-B6C1-35F50086E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72DA-08F9-49E2-8C65-37AEB2E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911F-BEBC-48D9-82FA-86F2219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23FE-C9CE-4193-9032-EC63EC3D4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2DF7-61FF-40C2-A933-945251837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BEFA5-3023-4B42-AEC4-4496C074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99501-301B-45CA-AB61-CD7A86D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44B2D-B36C-4EFE-95BB-69B58E2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3741B-2428-4703-9601-BE647E87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A6993-BF7C-4AA9-84F5-A7AA0354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A8FA-0CC5-492D-93F2-4834D9A2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2B9B-805D-44C0-B0C2-0FA4C16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F0EB6-A474-4B06-AFB4-5BC52AD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E37D-B979-4054-A598-E33F139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F8724-1FFD-49C6-9827-AF47A26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65679-434A-418C-98A0-117B5A4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61EDC-9FB7-4B11-902B-1D737EB80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98A6-F9A8-4F2E-8B9A-0E90316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510F-D248-477D-9154-1108C0D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6586-0AB9-436D-833B-875B00F1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8516-600D-4106-9D4B-2ADB046E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064B-9181-425C-B3CC-ECA3517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C615-1ED1-4A46-B650-66CBB34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A918-973A-4FE0-874F-017EBB37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8AA84-ABF4-488A-A99C-B4B2734B03A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3280"/>
            <a:ext cx="2131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3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3280"/>
            <a:ext cx="2132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BD17CC-02F4-480E-9D8B-CD869843196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cmko.org/" TargetMode="External"/><Relationship Id="rId3" Type="http://schemas.openxmlformats.org/officeDocument/2006/relationships/hyperlink" Target="mailto:rcmkoege@gmail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84464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Организация подготовки экспертов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предметных комиссий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Республики Татарстан в 2014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68720" y="5400720"/>
            <a:ext cx="403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нашева Юлия Геннадье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ического обеспечения  ГБУ «РЦМ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зань 2014 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-47952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е семинары экспертов ПК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«Согласование подходов к оцениванию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экзаменационных работ»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24-28 марта 2014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724360" y="4508640"/>
            <a:ext cx="2916360" cy="1639800"/>
            <a:chOff x="5724360" y="4508640"/>
            <a:chExt cx="2916360" cy="163980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5724360" y="4508640"/>
              <a:ext cx="29163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724360" y="4508640"/>
              <a:ext cx="2916360" cy="16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1773360"/>
            <a:ext cx="3328920" cy="1871640"/>
            <a:chOff x="324000" y="1773360"/>
            <a:chExt cx="3328920" cy="187164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24000" y="1773360"/>
              <a:ext cx="3328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4000" y="1773360"/>
              <a:ext cx="332892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916360" y="3284640"/>
            <a:ext cx="3327120" cy="1873080"/>
            <a:chOff x="2916360" y="3284640"/>
            <a:chExt cx="3327120" cy="18730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916360" y="3284640"/>
              <a:ext cx="332712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916360" y="3284640"/>
              <a:ext cx="332712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тяжении периода работы ПК с момента получения критериев оценивания развёрнутых ответов из РЦОИ до окончания проверки развёрнутых ответов участников ЕГЭ все помещения, в которых работают ПК, обеспечены системой непрерывного видеонаблюдения и видео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95640" y="4539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едение итоговых зач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8684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тбора экспертов-стажеров в РП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дтверждения экспертной высшей/первой катег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дтверждения статуса «Эксперт ЕГЭ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19560" y="3622680"/>
            <a:ext cx="3995640" cy="2693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онные испытания экспертов 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лификационное испытание для присвоения статуса эксперту проводится ежегод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, не прошедший квалификационные испытания в текущем году, не допускается к включению в состав ПК, а также не может принимать участие в проверке развёрнутых ответов участников ЕГЭ в текущем году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ожение о ПК РТ, приложение к приказу МОиН РТ от 24.05.2014г. №1557/1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кончании проверки заданий с развёрнутым ответом председатель ПК получает информацию об экспертах, показавших наибольшее количество расхождений в результатах оценивания. В следующем году на проверку ЭМ данные экспер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опускаю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333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нирование работы экспертизы ГИ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3840" y="1846440"/>
          <a:ext cx="8459280" cy="4762080"/>
        </p:xfrm>
        <a:graphic>
          <a:graphicData uri="http://schemas.openxmlformats.org/drawingml/2006/table">
            <a:tbl>
              <a:tblPr/>
              <a:tblGrid>
                <a:gridCol w="4248720"/>
                <a:gridCol w="4210560"/>
              </a:tblGrid>
              <a:tr h="90000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аименование предм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Срок прове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021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ПЕРИОД  ЭКЗАМЕНОВ основного периода 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с 26 мая по 19 июня 2014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язательные предме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ого этапа ЕГЭ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русский язык, математи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поздне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е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календарных дней после проведения соответствующего экзамен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тальные учебные предме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ого этапа ЕГЭ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поздне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етыре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календарных дней после проведения соответствующего экзамен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8840">
                <a:tc gridSpan="2">
                  <a:txBody>
                    <a:bodyPr lIns="0" rIns="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ПЕРИОД  ЭКЗАМЕНОВ дополнительного период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с 7 июля по 16 июля 2014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320">
                <a:tc>
                  <a:txBody>
                    <a:bodyPr lIns="0" rIns="0" tIns="140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замены ЕГЭ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полнитель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404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поздне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ре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календарных дней после проведения соответствующего экзамен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378000"/>
            <a:ext cx="70200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чень обязательных необходимых документов для оплат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619280"/>
            <a:ext cx="828036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СЕРОКОП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Паспорт гражданина РФ — основной разворот+пропис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Н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НИЛ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ксерокопия внешней стороны банковской карты «АК БАРС банк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НАЛИЧ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окумент, подтверждающий звание «Кандидат наук» - ксерокопия удостове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окумент, подтверждающий экспертную высшую или первую категор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ЯЗАТЕЛЬНО ДЛЯ ВСЕХ:  фото 3x4 для пропу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0360" y="5040360"/>
            <a:ext cx="293544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2708280"/>
            <a:ext cx="280836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ал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ege.ed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rustes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1989000"/>
            <a:ext cx="373392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йт республиканского центра мониторинга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rcmk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4581360"/>
            <a:ext cx="4103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институт педагогических измерени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fip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653000"/>
            <a:ext cx="38102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йт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mon.tata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625840" y="1484280"/>
            <a:ext cx="868320" cy="111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557360"/>
            <a:ext cx="380880" cy="274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90560" y="1557360"/>
            <a:ext cx="506520" cy="274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1484280"/>
            <a:ext cx="761760" cy="44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335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27000" algn="ctr">
              <a:lnSpc>
                <a:spcPct val="100000"/>
              </a:lnSpc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ацион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38080" indent="-27000" algn="ctr">
              <a:lnSpc>
                <a:spcPct val="100000"/>
              </a:lnSpc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едения ЕГЭ и ЕР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333360"/>
            <a:ext cx="7632720" cy="54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актная информ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ГБУ «Республиканский центр мониторинга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рек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хнов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Казань, Кировский район, ул. Боевая, 1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/факс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843) 223-09-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альник отдела методического обеспе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нашева Юли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cmko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айт ГБУ «РЦМКО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cmkoege@gmail.c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лектронная поч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916280"/>
            <a:ext cx="82296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Arial Unicode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b5ee5"/>
                </a:solidFill>
                <a:latin typeface="Times New Roman"/>
                <a:ea typeface="Arial Unicode MS"/>
              </a:rPr>
              <a:t>Документы, определяющие </a:t>
            </a:r>
            <a:br>
              <a:rPr sz="2800"/>
            </a:br>
            <a:r>
              <a:rPr b="1" lang="ru-RU" sz="2800" spc="-1" strike="noStrike">
                <a:solidFill>
                  <a:srgbClr val="1b5ee5"/>
                </a:solidFill>
                <a:latin typeface="Times New Roman"/>
                <a:ea typeface="Arial Unicode MS"/>
              </a:rPr>
              <a:t>деятельность предметной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риказ Министерства образования и науки РФ от 26.12.2013 года № 14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оложение о деятельности предметных комиссий РФ от 12.03.2014 г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риказ  МОиН РТ № 1275/14 от 14.03.20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40000" y="360360"/>
            <a:ext cx="431964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предметной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9640" y="1440000"/>
            <a:ext cx="3087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2519280"/>
            <a:ext cx="3419280" cy="72072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председателя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0360" y="3421080"/>
            <a:ext cx="1979640" cy="107964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00360" y="5040360"/>
            <a:ext cx="1979640" cy="10792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040360"/>
            <a:ext cx="1979640" cy="10792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3419640"/>
            <a:ext cx="1979640" cy="10792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ж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87" idx="2"/>
            <a:endCxn id="88" idx="0"/>
          </p:cNvCxnSpPr>
          <p:nvPr/>
        </p:nvCxnSpPr>
        <p:spPr>
          <a:xfrm flipV="1" rot="10800000">
            <a:off x="4422600" y="1080720"/>
            <a:ext cx="76680" cy="35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5" name=""/>
          <p:cNvCxnSpPr>
            <a:stCxn id="88" idx="2"/>
            <a:endCxn id="89" idx="0"/>
          </p:cNvCxnSpPr>
          <p:nvPr/>
        </p:nvCxnSpPr>
        <p:spPr>
          <a:xfrm flipV="1" rot="10800000">
            <a:off x="4409280" y="2160720"/>
            <a:ext cx="13320" cy="35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6" name=""/>
          <p:cNvCxnSpPr>
            <a:stCxn id="89" idx="1"/>
            <a:endCxn id="90" idx="0"/>
          </p:cNvCxnSpPr>
          <p:nvPr/>
        </p:nvCxnSpPr>
        <p:spPr>
          <a:xfrm flipV="1" rot="10800000">
            <a:off x="1348560" y="2879280"/>
            <a:ext cx="135036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7" name=""/>
          <p:cNvCxnSpPr>
            <a:stCxn id="89" idx="2"/>
            <a:endCxn id="91" idx="0"/>
          </p:cNvCxnSpPr>
          <p:nvPr/>
        </p:nvCxnSpPr>
        <p:spPr>
          <a:xfrm flipV="1" rot="10800000">
            <a:off x="2788560" y="3239640"/>
            <a:ext cx="1620000" cy="18010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" name=""/>
          <p:cNvCxnSpPr>
            <a:stCxn id="89" idx="2"/>
            <a:endCxn id="92" idx="0"/>
          </p:cNvCxnSpPr>
          <p:nvPr/>
        </p:nvCxnSpPr>
        <p:spPr>
          <a:xfrm>
            <a:off x="4409640" y="3239640"/>
            <a:ext cx="1801080" cy="180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9" name=""/>
          <p:cNvCxnSpPr>
            <a:stCxn id="89" idx="3"/>
            <a:endCxn id="93" idx="0"/>
          </p:cNvCxnSpPr>
          <p:nvPr/>
        </p:nvCxnSpPr>
        <p:spPr>
          <a:xfrm>
            <a:off x="6119280" y="2879640"/>
            <a:ext cx="135180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00" name=""/>
          <p:cNvSpPr/>
          <p:nvPr/>
        </p:nvSpPr>
        <p:spPr>
          <a:xfrm>
            <a:off x="6840360" y="1260360"/>
            <a:ext cx="1938600" cy="10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арь П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88" idx="3"/>
            <a:endCxn id="100" idx="2"/>
          </p:cNvCxnSpPr>
          <p:nvPr/>
        </p:nvCxnSpPr>
        <p:spPr>
          <a:xfrm flipV="1">
            <a:off x="5967000" y="1785600"/>
            <a:ext cx="873720" cy="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02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0"/>
            <a:ext cx="7488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  <a:ea typeface="Arial Unicode MS"/>
              </a:rPr>
              <a:t>Работа предметных комиссий в 2013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1050840"/>
          <a:ext cx="8229600" cy="5633640"/>
        </p:xfrm>
        <a:graphic>
          <a:graphicData uri="http://schemas.openxmlformats.org/drawingml/2006/table">
            <a:tbl>
              <a:tblPr/>
              <a:tblGrid>
                <a:gridCol w="431640"/>
                <a:gridCol w="2860920"/>
                <a:gridCol w="1644480"/>
                <a:gridCol w="1646280"/>
                <a:gridCol w="1646280"/>
              </a:tblGrid>
              <a:tr h="798120"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Предм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Количество экспер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Проверено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в 2013 г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Третья проверка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0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,4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Матема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0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,7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Физ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,9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,0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Информатика и 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,7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,7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,4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Обществ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,7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9,5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нглий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,4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емец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8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Француз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Испан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586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оличественный состав экспертов ПК ЕГЭ 20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84360" y="907920"/>
          <a:ext cx="4248360" cy="5391000"/>
        </p:xfrm>
        <a:graphic>
          <a:graphicData uri="http://schemas.openxmlformats.org/drawingml/2006/table">
            <a:tbl>
              <a:tblPr/>
              <a:tblGrid>
                <a:gridCol w="363600"/>
                <a:gridCol w="1852560"/>
                <a:gridCol w="2032200"/>
              </a:tblGrid>
              <a:tr h="45756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количество экспер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576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576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ец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ствозн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ан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\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5"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тар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5"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\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\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33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\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2716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одготовки экспертов ПК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ессии ЕГЭ в 2014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2960" y="1617840"/>
            <a:ext cx="2987640" cy="10378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960" y="170640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ПК «Повышение роли экспертного сообще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-21 ноября 2013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01960" y="3003480"/>
            <a:ext cx="3384720" cy="1460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8400" y="2997360"/>
            <a:ext cx="311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танционное обучение экспертов ПК на базе платформы ФГБУ «ФИПИ» «Эксперт ЕГЭ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т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941720"/>
            <a:ext cx="3058920" cy="10368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45160" y="5167440"/>
            <a:ext cx="288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ие семинары 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4-28 марта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2600" y="12207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I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587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5480" y="45338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I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760" y="2655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330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67160" y="446400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581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учас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24440" y="5978520"/>
            <a:ext cx="24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593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учас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Межрегиональный обмен опы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197000"/>
          <a:ext cx="8229600" cy="1436760"/>
        </p:xfrm>
        <a:graphic>
          <a:graphicData uri="http://schemas.openxmlformats.org/drawingml/2006/table">
            <a:tbl>
              <a:tblPr/>
              <a:tblGrid>
                <a:gridCol w="2592360"/>
                <a:gridCol w="5637240"/>
              </a:tblGrid>
              <a:tr h="375120">
                <a:tc>
                  <a:txBody>
                    <a:bodyPr lIns="90000" rIns="90000" tIns="9324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324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640">
                <a:tc>
                  <a:txBody>
                    <a:bodyPr lIns="90000" rIns="90000" tIns="8784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ГЭ-компания 2013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  <a:tc>
                  <a:txBody>
                    <a:bodyPr lIns="90000" rIns="90000" tIns="87840" anchor="t">
                      <a:noAutofit/>
                    </a:bodyPr>
                    <a:p>
                      <a:pPr marL="282600" indent="-282600" algn="just">
                        <a:lnSpc>
                          <a:spcPct val="86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ие в ФП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6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рестная проверка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6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работ участников зарубежных образовательных организа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4275000"/>
            <a:ext cx="3625920" cy="204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359160" cy="1890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23652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Участие в апробациях 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по проведению 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тренировочных экзаменов в формате ЕГ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2168640"/>
        </p:xfrm>
        <a:graphic>
          <a:graphicData uri="http://schemas.openxmlformats.org/drawingml/2006/table">
            <a:tbl>
              <a:tblPr/>
              <a:tblGrid>
                <a:gridCol w="2592360"/>
                <a:gridCol w="5637240"/>
              </a:tblGrid>
              <a:tr h="371520">
                <a:tc>
                  <a:txBody>
                    <a:bodyPr lIns="90000" rIns="90000" tIns="81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81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й год 2013-2014 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  <a:tc>
                  <a:txBody>
                    <a:bodyPr lIns="90000" rIns="90000" tIns="81000" anchor="t">
                      <a:noAutofit/>
                    </a:bodyPr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ЕГЭ по английскому языку с апробацией устной части экзаме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ЕГЭ по информатике и ИКТ в компьютерной форме (КЕГЭ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ЕГЭ по русскому языку и математ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ОГЭ по русскому языку и математи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2057400" cy="132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8560" y="4149720"/>
            <a:ext cx="2232000" cy="145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538440" y="4149720"/>
            <a:ext cx="2125800" cy="1434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-15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НПК «Повышение роли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экспертного сообщества»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20-21 ноября 2013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8177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9640" y="1546200"/>
            <a:ext cx="269568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059280" y="2217600"/>
            <a:ext cx="3031920" cy="1706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916360" y="4851360"/>
            <a:ext cx="3720960" cy="1876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32:01Z</dcterms:created>
  <dc:creator>Пользователь Windows</dc:creator>
  <dc:description/>
  <dc:language>en-US</dc:language>
  <cp:lastModifiedBy>Юлияг</cp:lastModifiedBy>
  <cp:lastPrinted>2014-04-21T11:59:54Z</cp:lastPrinted>
  <dcterms:modified xsi:type="dcterms:W3CDTF">2014-05-14T07:04:14Z</dcterms:modified>
  <cp:revision>75</cp:revision>
  <dc:subject/>
  <dc:title>Заголовок твой презентации</dc:title>
</cp:coreProperties>
</file>